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875F-786C-4821-9438-5195CB5E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282-F8E1-49CD-85E9-B2684729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6ACF-5BA5-4870-998F-110209FE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A62-BD44-4F38-971D-FB810083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5C08-0E93-4857-814C-C0DE2BCD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1076-62D2-430B-BB0E-A79E957B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919A-B44B-4499-803E-5AC1C9B1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673F-08F6-4990-AEA6-EA1D7C42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1AE8-7BBB-44C7-9EFF-8C336CB2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9B65-F062-479D-A05C-3E0FAD15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CC49-9ADD-459F-929C-EB8B59E6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16C-A97A-4BF2-98B5-63E28CCF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670E-62CB-4A67-89F3-F78964A7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C033-F227-4EF5-B6FB-B747A0EE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B813-3974-4B7D-8554-963227EE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E4F8-79E4-46BC-866D-5D51697C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28E4-876A-4255-A34E-30906BF4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0E8-A068-4579-A2F5-1773CDB8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DC58-72CE-406A-9CBC-2147BBC9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0E9-71B4-4903-8F0B-24703B92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CF4-BCAE-47D0-A5CD-27B606DF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1D19-CB1D-4A55-AD52-822D67C6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4D2-478F-4499-8ADA-E96BD7CF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5D7-F638-4291-92FE-46FBA707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7C56-1B44-4885-BC2F-8C6BAE4105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7236-F6CC-4B3A-94BD-0C20799B7D3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amuel</a:t>
            </a:r>
            <a:br>
              <a:rPr sz="48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 Samuel 4 - 8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3; Lesson 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09-1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533520" y="3581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uel’s Influence Caused Repentance – 1 Sam. 7:3-17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Israel put away their Baalim and Ashtaroth and asked for forg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way they would defeat the Philist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now judged Isra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istines again gathered against Isra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uel made an offering to G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 thunderstor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smote the Philist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one of Ebenezer set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was peace in the land for 20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sraelites Asked For A King –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 Sam. 8:1-2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was old – lived in Ramat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made his sons judges in Beershe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el and Abi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sons were corru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n by mo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ok bri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used their auth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was unrest in Isra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ople: “Give us a king to judge u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is Will Be The Manner Of The King”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 Sam. 8:11-2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ill take your 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ill appoint captains to use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ill take your daughters to c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ill take your fields and viney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ill take a tenth of your seed and viney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ill take from you menservants and maidserv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ill take a tenth of your sh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be working for the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srael Made Their Deci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ople rejected Samuel’s v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anted to be like other n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talked it over with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said: “make them a King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 Deut. 17:14-20 – God knew this day would 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starts a new period of Bible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remained a judge – anointed Saul and Dav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mu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842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the first of an order of “prophets”  (3:2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a “priest” offering sacrifice  (7: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the last “judge” of Israel  (7:15-1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unified the nation under a king  (Ch. 7-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a Levite  (1 Chron. 6:23, 33-3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lived the Nazarite vow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1 Sam. 1:1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educated other prophets  (1 Sam. 19:2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rn in the hills of Ephraim  (1 Sam. 1: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Ark of God Captured –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 Sam. 4:1-11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went to battle against the Philist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t about 4,000 men; God was not with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rk of the covenant was brought out of Shiloh to the cam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ain, the Israelites suffered a great loss; about 30,000 foot sold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phni and Phinehas were killed on that day and the ark was captu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eath Of Eli –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 Sam. 4:12-22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 98 years old and almost bl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received an update of the fight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fled before the Philist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ites defeated; many d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sons had been ki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rk was t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 fell backwards and broke his ne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 judged for 40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daughter-in-law was pregn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Ark In Philistine Territory –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 Sam. 5:1-12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n to Ashdod into the house of Dagon (Philistines go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house of Dagon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ly temples were erected in honor of this idol, which was the principal deity of the Philistines, but whose worship extended over all Syria, as well as Mesopotamia and Chaldea; its name being found among the Assyrian gods on the cuneiform inscriptions [RAWLINSON]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represented under a monstrous combination of a human head, breast, and arms, joined to the belly and tail of a fish. The captured ark was placed in the temple of Dagon, right before this image of the id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Ark In Philistine Territory –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 Sam. 5:1-12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n to Ashdod into the house of Dagon (Philistines go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day: Dagon had fallen on his 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the next day: Dagon had fallen again, head and hands had broken o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caused them to have emerods (hemorrhoids, boils, and/or tumo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k taken to Gath – same infli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k taken to Ekron – same infli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hilistines Return The Ark –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 Sam. 6:1-21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7 months of death and suff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priests and deviners had a “pla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it with a sin offe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2 cows pull the c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irection they go will tell if God was involved, or if the plague was by ch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ntrained cows went straight to Isra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ood and cows used as a sacri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 of Beth-she’mesh looked inside the a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,070 men slaughtered as a resu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Ark At Kirjath-jearim –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 Sam. 7:1-2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n to the house of A-bin’a-dab in the h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it was not transported at once to Shiloh where the tabernacle and sacred vessels were remaining, is difficult to conjec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azar, his son, was not a Levite, and was therefore only set apart or appointed to be keeper of the pl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rk abode in Kirjath-jearim 20 years until the days of Dav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7:47:45Z</dcterms:created>
  <dc:creator>Frank D Vines</dc:creator>
  <dc:description/>
  <dc:language>en-US</dc:language>
  <cp:lastModifiedBy>Frank D Vines</cp:lastModifiedBy>
  <dcterms:modified xsi:type="dcterms:W3CDTF">2005-03-11T20:46:03Z</dcterms:modified>
  <cp:revision>17</cp:revision>
  <dc:subject/>
  <dc:title>Slide 1</dc:title>
</cp:coreProperties>
</file>